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256-63CF-413C-8CF2-07ACD8CE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62B-2C14-42F5-91B0-ED3262E1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A70-5584-442F-A06C-A6A3E066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18F-6715-422B-ACED-2CF1F396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4E8-7E50-4373-B5C5-D7717009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D1C-4EC1-4082-BD41-A935757E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E92-4268-406A-810D-6BB666ED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132-3DD6-47C5-8BFE-44369FDD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644-F3BC-4B15-BC8B-40CF784E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7C8-F712-4100-85E2-78BC28E3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186-7598-4A00-B496-99AEAE0D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F36-C384-47C8-9098-D7FF004B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383E-4257-431C-8AB3-F134677D75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dfd293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alphaModFix amt="92000"/>
          </a:blip>
          <a:stretch/>
        </p:blipFill>
        <p:spPr>
          <a:xfrm>
            <a:off x="5181480" y="1752480"/>
            <a:ext cx="565200" cy="709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4</cp:lastModifiedBy>
  <dcterms:modified xsi:type="dcterms:W3CDTF">2012-06-19T11:14:21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